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2993-536B-46B6-B170-D47CBD1BBDD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7797-CF2C-4EA0-A682-ED3A8500F35B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i kirjallista tuottamista, keskustelu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26BC-CABA-4469-98B9-CAA90CC196A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utustumaan tämän päivän työelämää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ietää minkälaisen opiskelijan voi top paikkaan tu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D88-5BF6-43AA-AB90-0BAAF2E7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3F2-7C18-45C3-9019-0EB22044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0C1-0017-4D76-96ED-81C4652F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B67-AC6F-4B70-B6D6-15B9D406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63D8-BA9A-4BA0-A6DB-FDE6AB32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ECD5-301D-41EE-A68E-3D55A5BB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8822-2641-46BA-A4BB-387819E1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8A12-1CCB-4E98-8619-47B52AAA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93E4-E5FD-4356-A0C5-774FF3C2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F54D-6015-4CB4-A5BC-77B11AB7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BFF3-D308-4E5F-AEBB-9F3387B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831-304A-4D29-A1E7-6D4E1116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FF40-FA60-4178-B574-99D8AF0C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A1A0-D566-4DCE-8859-1C8C33C6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16AB-A95E-45FF-A1B7-7FA6C737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BA4F-D380-4DC9-9E44-3B37299D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D643-7C9B-4106-9FAD-9FF764DA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D3A-06F6-47F8-82C4-196B9070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229-E46C-4A99-B136-417B1EDE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C73-5630-43ED-AB49-D8F5BC83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2252-AF38-44F6-86A1-50504B21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754-E90A-4CC8-A067-302F7482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AE7-B664-4BBA-9795-A6F8C276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D69-6A8A-40F7-BE74-18BB9948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C325-83E1-4735-9672-D0DE6DC08A96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906-B824-440F-A2F5-03946D39E87B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6666"/>
                </a:solidFill>
                <a:latin typeface="Arial"/>
              </a:rPr>
              <a:t>TYÖELÄMÄJAKSO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72388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Päivi Vuorihuh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16.3-12.4.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image005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6165720"/>
            <a:ext cx="1371600" cy="389160"/>
          </a:xfrm>
          <a:prstGeom prst="rect">
            <a:avLst/>
          </a:prstGeom>
          <a:ln w="0">
            <a:noFill/>
          </a:ln>
        </p:spPr>
      </p:pic>
      <p:pic>
        <p:nvPicPr>
          <p:cNvPr id="100" name="Kuva 3" descr="sosiaali.jpg"/>
          <p:cNvPicPr/>
          <p:nvPr/>
        </p:nvPicPr>
        <p:blipFill>
          <a:blip r:embed="rId2"/>
          <a:stretch/>
        </p:blipFill>
        <p:spPr>
          <a:xfrm>
            <a:off x="2124000" y="6021360"/>
            <a:ext cx="863640" cy="56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image007"/>
          <p:cNvPicPr/>
          <p:nvPr/>
        </p:nvPicPr>
        <p:blipFill>
          <a:blip r:embed="rId3"/>
          <a:stretch/>
        </p:blipFill>
        <p:spPr>
          <a:xfrm>
            <a:off x="3348000" y="6093000"/>
            <a:ext cx="907920" cy="439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Keuda logo"/>
          <p:cNvPicPr/>
          <p:nvPr/>
        </p:nvPicPr>
        <p:blipFill>
          <a:blip r:embed="rId4"/>
          <a:stretch/>
        </p:blipFill>
        <p:spPr>
          <a:xfrm>
            <a:off x="4932360" y="6165720"/>
            <a:ext cx="1079640" cy="390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4Vlogo LYAKY"/>
          <p:cNvPicPr/>
          <p:nvPr/>
        </p:nvPicPr>
        <p:blipFill>
          <a:blip r:embed="rId5"/>
          <a:stretch/>
        </p:blipFill>
        <p:spPr>
          <a:xfrm>
            <a:off x="6516720" y="6165720"/>
            <a:ext cx="957240" cy="33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TOPO-1"/>
          <p:cNvPicPr/>
          <p:nvPr/>
        </p:nvPicPr>
        <p:blipFill>
          <a:blip r:embed="rId6"/>
          <a:stretch/>
        </p:blipFill>
        <p:spPr>
          <a:xfrm>
            <a:off x="8028000" y="6021360"/>
            <a:ext cx="571320" cy="5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006666"/>
                </a:solidFill>
                <a:latin typeface="Arial"/>
              </a:rPr>
              <a:t>TAVOITE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lisätä työelämän ja oppilaitoksen yhteistyötä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kouluttaa työpaikkaohjaaji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tehdä työpaikkakartoitust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6666"/>
                </a:solidFill>
                <a:latin typeface="Arial"/>
              </a:rPr>
              <a:t>MITÄ TEIN 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9636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koulutin työpaikkaohjaajia heidän omalla työpaikallaan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mukana käytännön työssä, samalla opeteltiin palautteen antamista ja perehdyttämistä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tein työpaikkakartoituksi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190512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alkukartoitus, mitä koulutettavat odottivat koulutuksel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pienryhmätapaamise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käytännön työskentely työpaikal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6666"/>
                </a:solidFill>
                <a:latin typeface="Arial"/>
              </a:rPr>
              <a:t>MITÄ OPIN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enemmän opettajat työelämää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8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lisää vuorovaikutusta työelämän ja oppilaitoksen välillä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8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helpompi” ottaa yhteyttä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8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opiskelijoiden sijoittaminen top paikkaa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8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monialaisuu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1:49:05Z</dcterms:created>
  <dc:creator>Omnia</dc:creator>
  <dc:description/>
  <dc:language>en-US</dc:language>
  <cp:lastModifiedBy>hkamarai</cp:lastModifiedBy>
  <dcterms:modified xsi:type="dcterms:W3CDTF">2011-11-08T10:47:22Z</dcterms:modified>
  <cp:revision>4</cp:revision>
  <dc:subject/>
  <dc:title>Oma työelämäjakso</dc:title>
</cp:coreProperties>
</file>